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DA94-B7B6-4E70-9291-93D316323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8C11-4F3F-4CE2-AD55-65C8AD3C6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EAC5-F213-40BE-92ED-082036605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E6C8-6FD7-4432-8EE9-A676EEDA5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008C0-2535-4FD5-9699-4869278D7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F8538-6C57-4483-A791-5A7EE2482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3F704-F62C-48C9-BAFC-B719A0020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F9DD5-0898-4F7F-BFA9-73DCF2E8D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08A3A-2B80-4492-9E7F-03B5B25B8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59AD3-F6FE-4900-96FF-872424E06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226B4-F1E3-42FF-BEBC-91FF0A48C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21A9-1ECE-491E-9F5B-EBC445746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3EACD-106B-4C57-8C90-2841B56C2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ED0C2-7C6F-424C-B7FA-D5490859E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C0309-A94A-4D46-823C-2E4CF0E6F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EB2F5-A378-4157-8376-E4424F758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6AFE2-70C5-456D-9B52-843EEE49F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E2AB-94FA-460D-BC61-DB48FBE0B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9574-3A05-472E-A994-875D26A16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0F7F-21AA-4F5B-B3EA-174431EF2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1594-D9C6-4919-A469-A33C11C43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5411-DE0B-410F-854E-47CC4FDCE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EB78-8523-4168-B146-CE4274F68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A93F-10D6-4D2F-8AE8-9A1E9B22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D40B5-30EF-4B10-AE6F-D397BBD9E3BC}" type="slidenum"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E5A2A-F8C2-456B-B6C8-B4ED689BAC87}" type="slidenum"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33"/>
                </a:solidFill>
                <a:latin typeface="Tahoma"/>
              </a:rPr>
              <a:t>D</a:t>
            </a:r>
            <a:r>
              <a:rPr b="0" lang="lt-LT" sz="4400" spc="-1" strike="noStrike">
                <a:solidFill>
                  <a:srgbClr val="330033"/>
                </a:solidFill>
                <a:latin typeface="Tahoma"/>
              </a:rPr>
              <a:t>Ė</a:t>
            </a:r>
            <a:r>
              <a:rPr b="0" lang="en-US" sz="4400" spc="-1" strike="noStrike">
                <a:solidFill>
                  <a:srgbClr val="330033"/>
                </a:solidFill>
                <a:latin typeface="Tahoma"/>
              </a:rPr>
              <a:t>MESYS</a:t>
            </a:r>
            <a:r>
              <a:rPr b="0" lang="lt-LT" sz="4400" spc="-1" strike="noStrike">
                <a:solidFill>
                  <a:srgbClr val="330033"/>
                </a:solidFill>
                <a:latin typeface="Tahoma"/>
              </a:rPr>
              <a:t> ir ATMINTIS</a:t>
            </a:r>
            <a:endParaRPr b="0" lang="en-US" sz="44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Užmiršimas priklauso nuo: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Įsiminimo tvirtu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Užmiršimą skatinančių veiksnių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Laikomos informacijos panaudojimo praktinėje veikloje: kuo mažiau naudojame, tuo greičiau užmirštame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Interferencija (proaktyvioji/retroaktyvioji) - informacijos persidengimas, susimaišyma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Kartojimo stok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Situacij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Nuostatos pasikeitim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Smegenų pažeidima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Pagal informacijos laikymo trukmę atmintis skirstoma į: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Arial"/>
              </a:rPr>
              <a:t>Jutiminę/sensoninę atmintį (SA)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Arial"/>
              </a:rPr>
              <a:t>Trumpalaikę atmintį (T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Arial"/>
              </a:rPr>
              <a:t>Ilgalaikę atmintį (IA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ATMIN</a:t>
            </a:r>
            <a:r>
              <a:rPr b="0" lang="en-US" sz="3800" spc="-1" strike="noStrike">
                <a:solidFill>
                  <a:srgbClr val="330033"/>
                </a:solidFill>
                <a:latin typeface="Tahoma"/>
              </a:rPr>
              <a:t>ties geriniMas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483920"/>
            <a:ext cx="77724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Medžiagos dalinimas prasminiais gabal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asmeninės prasmės suteikimas - vaizduotės pasitelkimas (asociacij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medžiagos nagrinėj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aktyvus kartoj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Tikslin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konteksto reikšmė (tos pačios aplinkybė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medžiagos organizav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raktikavimasis (atsiminim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interferencijos mažin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QRST metodas (medžiagos peržiūrėjimas, klausimai, skaitymas, pakartojimas sa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testa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n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ija – visi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škas ar dalinis atminties prarad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Metaatmintis – savo paties atminties sistemos žinojim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DĖMESYS 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Dėmesys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— savitas individo nervų sistemos mechanizmas, užtikrinantis jam efektyvų psichinės veiklos organizuotum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Dėmesys – tai procesas, kuris leidžia išskirti objektus ar stimulus iš daugelio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400" spc="-1" strike="noStrike">
                <a:solidFill>
                  <a:srgbClr val="000000"/>
                </a:solidFill>
                <a:latin typeface="Arial"/>
              </a:rPr>
              <a:t>Dėmesio objektas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– tai, į ką sutelktas dėmes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400" spc="-1" strike="noStrike">
                <a:solidFill>
                  <a:srgbClr val="000000"/>
                </a:solidFill>
                <a:latin typeface="Arial"/>
              </a:rPr>
              <a:t>Dėmesio fonas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– tai, kas supa objekt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DĖMESIO VEIKSNIAI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- veiksniai, kurie skatina ar slopina dėmes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Išoriniai: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stimulų intensyvu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Nauju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Spalvinu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Struktūriškum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Vidiniai: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asmenybės kryptingumas (poreikiai, interesai) ir su juo susiję veiklos tikslai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DĖMESIO RŪŠY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agal išankstinį dėmesio krypties pasirinkimą: </a:t>
            </a:r>
            <a:r>
              <a:rPr b="0" i="1" lang="lt-LT" sz="2800" spc="-1" strike="noStrike">
                <a:solidFill>
                  <a:srgbClr val="000000"/>
                </a:solidFill>
                <a:latin typeface="Arial"/>
              </a:rPr>
              <a:t>nevalingas, valingas, savaimin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agal platumą: </a:t>
            </a:r>
            <a:r>
              <a:rPr b="0" i="1" lang="lt-LT" sz="2800" spc="-1" strike="noStrike">
                <a:solidFill>
                  <a:srgbClr val="000000"/>
                </a:solidFill>
                <a:latin typeface="Arial"/>
              </a:rPr>
              <a:t>selektyvus ir paskirsty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Dėmesio savybė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Intensyvumas/koncentracija &lt; &gt; svyravimas, išsek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atvaru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dėmesio apim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dėmesio paskirsty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dėmesio perkėlimas &lt; &gt; klampu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dėmesingu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ATMINTI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tmintis – tai sugebėjimas įsiminti, laikyti ir po kiek laiko atgaminti gautą informacij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tminties procesai: įsiminimas, saugojimas, atsiminimas. Užmiršim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Įsiminima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- tai užkodavimas, suteikiant gautai informacijai formą ir įvedimas į atmint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Nevalingas (automatiška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Valing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Mechaninis arba prasminis/semantini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Vaizdiniai (regimasis kodavima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Informacijos sutvarkyma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UŽMIRŠIMAS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tai atminties procesas, dėl kurio suvoktos ir užkoduotos informacijos negalime prisimint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H.Ebbinghauso užmiršimo kreivė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68421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0T18:49:57Z</dcterms:created>
  <dc:creator>TADAS</dc:creator>
  <dc:description/>
  <dc:language>en-US</dc:language>
  <cp:lastModifiedBy> </cp:lastModifiedBy>
  <dcterms:modified xsi:type="dcterms:W3CDTF">2007-10-24T20:22:40Z</dcterms:modified>
  <cp:revision>14</cp:revision>
  <dc:subject/>
  <dc:title>ATMINTIS IR DĖMESYS</dc:title>
</cp:coreProperties>
</file>